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1D5F-DEFE-4B1F-A5AD-DAAA516E1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8ACD-BB5E-43E5-9137-FD9DAF1C4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3287-E511-4A71-AD73-520DBF279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DFEF-66C6-455A-92FC-3C629CF3A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0578-BB93-4632-ADD2-38CBCCB5E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044B-59D8-415B-A1C3-6B22CB1B4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E554-F0A6-4D65-901A-FC343ABA7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95AB-E2DE-4FAD-A1DE-3560F232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4CE9-1DE1-41A5-B3CF-47F8E94C4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53EE-57A8-4ACA-8502-101B7F43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A139-5BF5-4091-934C-1C0E0A9C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C697-EBE3-4398-9870-723E639D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36E80-C371-44E1-BAE7-6E8928B62507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335 Rozsievajme vša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/: K práci volá nás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ov jasný hl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atva je už blízko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zrieva už klas. :/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ozsievajme všad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zácne semä pravd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vesť o Božej lásk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šírme zas a z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uchom svojím Pán tú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iatbu našu zvlaž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zácne zrno dozri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íde žatvy 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/: K práci volá nás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ov jasný hl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atva je už blízko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zrieva už klas. :/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ejme, keď sú mrak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j keď slnko sviet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i je pôda skalná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či nechuť v n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lia nedozerné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áce všade mnoho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atva je už blízko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ýchlo letí 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/: K práci volá nás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ov jasný hl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atva je už blízko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zrieva už klas. :/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zbierajme snop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rne, v svätej bázn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ým nás volá k diel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žej lásky hl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oskoro sa skončí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íležitosť k prác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š Pán je už blízko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 žatve dozrel 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4T15:59:01Z</dcterms:modified>
  <cp:revision>41</cp:revision>
  <dc:subject/>
  <dc:title>Je veľký náš Pán, on slávy je Kráľ Nech do všetkých strán  spev vrúcnych znie chvál.</dc:title>
</cp:coreProperties>
</file>